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18520371"/>
        <c:axId val="69199520"/>
      </c:barChart>
      <c:catAx>
        <c:axId val="18520371"/>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69199520"/>
        <c:crosses val="autoZero"/>
        <c:auto val="1"/>
        <c:lblAlgn val="ctr"/>
        <c:lblOffset val="100"/>
        <c:noMultiLvlLbl val="0"/>
      </c:catAx>
      <c:valAx>
        <c:axId val="69199520"/>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18520371"/>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927B00-05DB-493A-94BE-DEBB174CC1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E93D8-3B26-483C-B21F-B02480C80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0E7A33-A488-4E5E-9F61-514504A8BE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FBF801-B3B6-4DF0-BAE6-F7AB50640D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231736-9D5D-448C-B371-5B15751B41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E405ED-C574-4B54-ADB0-5A7A491661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AB2E89-D733-4FB9-882F-78D89AE40C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138F0A-2A59-4AFD-AD91-2D86A41235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A3F7A6-635C-4383-AC37-1668FD417B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3367E9-BD35-4B65-9F4C-EF86E4E0E3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22E46-E81B-4329-8D67-2EA1F44AC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451AF-DE5D-4291-AD9D-2B98CD52C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523228-226C-4766-83A5-DAEF2A5B91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1FFC0-8179-4C49-BEEE-8474E30E8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B4B9AF-6351-42B3-86BD-1B981A0725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261440-8617-40CF-A2B1-FFA2F8A0A4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AF306E-2EFE-415A-82C4-17E0D50362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5A28B-AF54-427B-9E8D-B6028EE32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8463C-222A-4E94-B70F-84A31E891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47F10-844B-4483-BF27-00E71C473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CB246-F8D9-4B97-9D09-963CE5EB6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D5903-EB23-4F76-BED1-A16DEB60E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6BE2A-A542-4CC4-8178-D53306238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553AA-6044-4147-A710-FF5B70B270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15E361-AE4B-4BE3-B0E0-87E280F6EC27}"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D0061C-3284-41DF-91ED-7EFDFC26B8BF}"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